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A88-AAB4-4686-86BC-F29FC729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4B2-6532-4BCF-814A-DF6233B4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523-002A-4EBE-B0E0-2E4AF9DB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85D-A2B6-47EE-B30B-B3625970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003-8CF9-4291-BA78-11F24E7A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5B5-D3A0-4D4D-8404-1133F522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8F4-2EED-438E-AA5B-1A574A7A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350-D6DE-4767-AA6A-11E4E741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460-05EC-4B3C-BEB4-86B618BD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777-8D62-4C6E-ADC7-2F169A88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BE0-F555-4916-919A-09BCA4EA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DCD-C6EE-4B83-A627-F91FC481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8C98-707A-4F76-9DAF-B20517F5E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76176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„Decke“ für das Schwimmbad in Schloßborn – WARUM? – DARU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ergie-Einsparpotential von 50 bis 60 % 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osten von ca 10.000 bis 15.000 € pro Jah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Energiepreis hat sich seit 1997 verdreifacht, Tendenz weiter stei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i einer Investition von 60.000 bis 100.000 € amortisiert sich die Investition in vier bis 10 Jah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altbarkeit der Systeme ist nachgewiesen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iegt im Bereich von 15 bis 25 Jahr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ehntausende von Referenzen mit oft jahrzehntelangem Ein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bsorberanlage kann EE-Potential noch steigern, aber NUR in Verbindung mit einer Abdeckung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örderungsmöglichkeiten ausschöpf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gerungs-, Verkeimungs- und Handhabungsprobleme sind aus anderen Installationen nicht bekannt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mmary-WOR-0910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0:55:07Z</dcterms:created>
  <dc:creator>Wolfgang Roblick</dc:creator>
  <dc:description/>
  <dc:language>en-US</dc:language>
  <cp:lastModifiedBy>Wolfgang Roblick</cp:lastModifiedBy>
  <dcterms:modified xsi:type="dcterms:W3CDTF">2009-10-27T13:14:49Z</dcterms:modified>
  <cp:revision>5</cp:revision>
  <dc:subject/>
  <dc:title>Eine „Decke“ für das Schwimmbad in Schloßborn</dc:title>
</cp:coreProperties>
</file>